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2F7-656A-4AE4-8776-8E2E9C31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9A3-ED4F-4652-B51F-8400770B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461-DB0D-4632-879B-2B72CE55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B89-E21E-4623-8BCA-B9D8DEDE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E26-C634-4BF5-9267-0E88D52F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C03C-928D-47FC-9AC6-CC1225EC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5653-1AC9-404D-81FD-17D30582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7DA-B178-4B0A-A0AA-406BD98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511F-F905-4A06-BB7E-4318FA2C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D034-22EF-455B-BBDB-80960A8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3C67-5A3A-4637-B3C2-C2441C0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986-DA6A-4906-B2F7-F96BF63B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F6BE-99AB-4D86-A5BC-10A1746D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4AA-F9D2-4A4D-B331-185F1082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7C7F-CC60-414E-97D0-4B28FF04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7E51-AD01-47F0-8C53-4A1C793A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A13E-D802-484F-B909-4DAD71A3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C80-7144-4790-AA06-D9844BC0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C40-46BF-439F-B0EE-55952463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0BB-37BA-459D-93E1-169490B7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58D-6ABF-449A-9406-9E282B82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DF8-A51F-447B-A343-4D6CB4C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A25-3EC0-4EE7-AC14-873B42F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36EF-3BA0-43E4-BE3D-F1E27506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8186-9EE5-44CC-9380-9D67E16AAF8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A681-8957-4652-B6F3-BCC96AA3C65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full grown lion can eat seventy-five pounds of meet in one me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le lions way several hundred pounds and are vary strong but they prefer to stay home with the cubs while females do the hun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3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y biggest pet peeve is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n you’re car overheats and steam billows out from under the hood you need to remember that payshunce is a virtue and don’t immediately remove the radiator cap, or you might get scald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getarians can enjoy Summer barbecues without feeling left out grilling is not just for meat anymore skewered marinated vegetables are delishous when grill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3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f you were stranded on a deserted island, what 5 things would you bring with you and wh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cell phone, computer, boat, helicopter.  Nothing that will get you rescued from the is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rite a short paragraph with ten proper nouns.  (Remember, proper nouns name a specific person, place, thing, or idea and are always capitalized.) Circle the proper nou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98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Then substitute </a:t>
            </a:r>
            <a:r>
              <a:rPr b="1" lang="en-US" sz="2200" spc="-1" strike="noStrike">
                <a:solidFill>
                  <a:srgbClr val="eaeaea"/>
                </a:solidFill>
                <a:latin typeface="Tahoma"/>
              </a:rPr>
              <a:t>personal pronouns</a:t>
            </a: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 for the proper nouns.  Personal pronouns include </a:t>
            </a:r>
            <a:r>
              <a:rPr b="0" i="1" lang="en-US" sz="2200" spc="-1" strike="noStrike">
                <a:solidFill>
                  <a:srgbClr val="eaeaea"/>
                </a:solidFill>
                <a:latin typeface="Tahoma"/>
              </a:rPr>
              <a:t>I, me, mine, we, us, our, ours, you, your, yours, he, him, his, she, her, hers, it, its, they, them, their, </a:t>
            </a:r>
            <a:r>
              <a:rPr b="0" lang="en-US" sz="2200" spc="-1" strike="noStrike">
                <a:solidFill>
                  <a:srgbClr val="eaeaea"/>
                </a:solidFill>
                <a:latin typeface="Tahoma"/>
              </a:rPr>
              <a:t>and </a:t>
            </a:r>
            <a:r>
              <a:rPr b="0" i="1" lang="en-US" sz="2200" spc="-1" strike="noStrike">
                <a:solidFill>
                  <a:srgbClr val="eaeaea"/>
                </a:solidFill>
                <a:latin typeface="Tahoma"/>
              </a:rPr>
              <a:t>their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7:01:38Z</dcterms:created>
  <dc:creator>tpagel</dc:creator>
  <dc:description/>
  <dc:language>en-US</dc:language>
  <cp:lastModifiedBy>tpagel</cp:lastModifiedBy>
  <dcterms:modified xsi:type="dcterms:W3CDTF">2010-06-03T17:02:04Z</dcterms:modified>
  <cp:revision>1</cp:revision>
  <dc:subject/>
  <dc:title>Warm-Up Sentences</dc:title>
</cp:coreProperties>
</file>